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B34-00DC-4CC2-9D82-63B78B90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AE2-5347-4DE1-A2C1-66EAEEA9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3CB-5C1F-40CE-9D22-3C217338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626-EA5A-49E2-9BC0-E5AC8E24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AF2-0BAC-4921-8DEE-9A90F27E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9C9-3554-4BCD-AC02-1183B187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E06-BF48-4CDA-AE9A-16EFD71F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16E-A8C5-43BA-8440-DCC8719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615-7959-4EDC-B379-C227E0DE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E15-9C50-44CD-93B7-7452D31E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FA4-C276-4B3A-A511-A7ED472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33D-2487-4397-8093-7F5F64EE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61B8-DD4B-4F91-A3FD-7B80072C79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以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y Vacatio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题写一篇短文。假如你是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ik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你印象最深的是去年暑假和家人一起去乡下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ountrysi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爷爷家。乡下的空气很好，天气也不错；你和爷爷去爬山、钓鱼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fish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和堂弟去游泳；奶奶每天都给你做好吃的。你们过得很愉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词左右，文章的开头已给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 remembered my last summer vacation. My family and I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went to see my grandparents in the countryside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The air there was fresh, and the weather there was good, too. I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went to the mountai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nd went fishing with my grandfather. And I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went swimm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with my cousin. My grandmother cooked delicious food for us every day.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Everything tasted really goo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We had a grea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背诵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 went to a friend’s farm in the countryside with my family. Everything was great . We fed hens and saw some baby pigs. They were so cute!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The only problem was that there was nothing much to do in the evening but to rea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Still no one seemed to be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81680" y="10666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Unit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324000" y="1163520"/>
            <a:ext cx="8640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wood Park is _________ place to go on weekends. I always finish my breakfast _______ on Saturdays because I want to get to Greenwood Park before 10:00 a.m. to meet my friends. The park is ________________ place on weekends because almost everyone goes there to see the street performe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66560" y="2500200"/>
            <a:ext cx="15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s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2200" y="4444920"/>
            <a:ext cx="396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crow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324000" y="260280"/>
            <a:ext cx="8567640" cy="792360"/>
          </a:xfrm>
          <a:prstGeom prst="rect">
            <a:avLst/>
          </a:prstGeom>
          <a:solidFill>
            <a:srgbClr val="ffcc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7030a0"/>
                </a:solidFill>
                <a:latin typeface="Arial"/>
                <a:ea typeface="Times New Roman"/>
              </a:rPr>
              <a:t>crowed, creative, good, fast, quietl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2160" y="1268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e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395280" y="874800"/>
            <a:ext cx="8424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eople think they are boring, but I think they are ________________ people. However, the place where you can enjoy your tim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 is at one of the small coffee shops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ear the park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You can read or relax the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There is  something for everyone at Greenwood Pa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19640" y="1522440"/>
            <a:ext cx="367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cre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592360" y="289728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quie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1557360"/>
            <a:ext cx="70563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示：假如你是一位在中国学习的英国学生，请你根据以下要点给在英国的祖母写一封信，介绍你的一位好朋友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ng Li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你在一起的生活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Wang L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你更开朗更风趣，总给你讲些有趣的故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们都喜欢运动，每周锻炼三四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们每天放学后打篮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们都喜欢听音乐，看动作片，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ng L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喜欢看新闻，他认为从中可以弄清楚世界各地发生的事 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不喜欢肥皂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周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ng L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带你去华夏影院看了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lunt Force Traum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影片很精彩，你觉得这是最好的一家影院，有最舒适的座位和最佳的音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上要点不要逐字翻译，结合内容适当 发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词数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左右（已给出的不计入总词数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书信格式和人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示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utgoing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朗的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unny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风趣的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ell stories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故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exerci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锻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tim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数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lthoug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sho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矮的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gether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起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usic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乐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tion movie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作片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ws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闻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nd out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弄清楚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o on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soap opera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肥阜剧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uaxia Cinema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夏影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wonderful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精彩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sound effect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391520" y="2590920"/>
            <a:ext cx="11811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unit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ar grandm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ow is everything goi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w I am studying in Chin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have a good fri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is name is Wang L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e is a Chinese bo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 is more outgoing and funnier than 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nd he always tells me some interesting stori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ng L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你更开朗更风趣，总给我讲些有趣的故事；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both lik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playing spor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exercise three or four times a wee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always play basketball after school every da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（你们都喜欢运动，每周锻炼三四次；你们每天放学后打篮球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both like listening to music and watching action movi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e also likes watching news because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he thinks he can find out what's going on around the world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高分句型一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ut he doesn't like soap opera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（你们都喜欢听音乐，看动作片电影，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ng L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喜爱看新闻，他认为从中可以弄清楚世界各地发生的事情，不喜欢肥皂剧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ast week Wang Lin took me to Huaxia Cinem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saw a wonderful film 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高分句型二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think the cinema is the best one in tow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It has the most comfortable seats and the best sound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上周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ng L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带我去华夏影院看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lunt Force Traum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影片很精彩，我觉得这是一家最好的影院，有最舒适的座位，最佳的音效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st wish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三期中测试一作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如你是李明， 英文名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as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今年寒假要去英国参加冬令营活动。 请根据下列提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英语写一篇自我介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-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点提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自武汉， 每周锻炼两次， 每天吃水果蔬菜， 很少吃垃圾食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友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比你高， 比你外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后想当一名工程师， 为此你要努力学习， 取得好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I’m very glad to introduce myself to all of you. My English nam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Jason. I come from Wuhan. I exercise twice a week, so I am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in good healt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I eat fruit and vegetables every day and hardly ever eat junk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best friend Tom is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taller and more outgo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an me. In the future I want to be an engineer. I must study hard and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get good grad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I feel lucky to join you. I hope that we can be goo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n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你的好朋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写一篇短文介绍她的生活与饮食习惯。要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词数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na is my good friend. She has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a healthy lifesty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She always drinks a glass of milk and eats an egg for breakfast. she has rice and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different kinds of vegetabl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for lunch. For dinner, she usually eats some fish and vegetables. she never eats junk food. </a:t>
            </a:r>
            <a:br>
              <a:rPr sz="3200"/>
            </a:b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Tina goes to school by bike and she thinks it’s good exercises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She goes to bed early and gets up early, too. She thinks good habits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helps her get good grad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61800" y="1268280"/>
          <a:ext cx="8386920" cy="5386680"/>
        </p:xfrm>
        <a:graphic>
          <a:graphicData uri="http://schemas.openxmlformats.org/drawingml/2006/table">
            <a:tbl>
              <a:tblPr/>
              <a:tblGrid>
                <a:gridCol w="4930920"/>
                <a:gridCol w="345600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tiviti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ays a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erc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ad book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atch TV for over 2 hour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rink ju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at hamburg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lp with housewor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y up l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o to the denti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12"/>
          <p:cNvSpPr/>
          <p:nvPr/>
        </p:nvSpPr>
        <p:spPr>
          <a:xfrm>
            <a:off x="1547640" y="189000"/>
            <a:ext cx="7272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ff"/>
                </a:solidFill>
                <a:latin typeface="Arial"/>
                <a:ea typeface="Times New Roman"/>
              </a:rPr>
              <a:t>Look at the information in the chart and complete the report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"/>
          <p:cNvSpPr/>
          <p:nvPr/>
        </p:nvSpPr>
        <p:spPr>
          <a:xfrm>
            <a:off x="395280" y="333360"/>
            <a:ext cx="898560" cy="65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43800" y="5334120"/>
            <a:ext cx="11811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Unit2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466560" y="693720"/>
            <a:ext cx="82090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is a 16-year-old hig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student in the United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Teenager magazi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ked her about her habits.  Jane has a lot of good habits. S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lway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ercises and she reads books ________. Also, she _______ drinks juice and she __________ stays up l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40000" y="4732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00720" y="40766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68360" y="5373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ly 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30200" y="260280"/>
            <a:ext cx="1765440" cy="2592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360360" y="549360"/>
            <a:ext cx="83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she has some bad habits, too. She _______ watches TV for more than two hours a day, and she __________ eats hamburgers. Her parents are not very happy because she __________ helps with housework and she ______ goes to the dentist for teeth cleaning. She says she is afrai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224000" y="1197000"/>
            <a:ext cx="1547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364000" y="1886040"/>
            <a:ext cx="237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067280" y="3182760"/>
            <a:ext cx="313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ly 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284720" y="3860640"/>
            <a:ext cx="143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250920" y="189000"/>
            <a:ext cx="165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riting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79280" y="2803680"/>
            <a:ext cx="87138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析词汇，可分为长相，爱好，性格及学习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句子结构，介绍发型时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… hai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介绍爱好时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s 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其他可用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当运用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9640" y="220500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写作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908000" y="26028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Wang Lingling and Liu Lili are best friends. Look at the chart on page 23 and compare the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"/>
          <p:cNvSpPr/>
          <p:nvPr/>
        </p:nvSpPr>
        <p:spPr>
          <a:xfrm>
            <a:off x="719280" y="1197000"/>
            <a:ext cx="684000" cy="80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315200" y="5334120"/>
            <a:ext cx="11811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unit3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2"/>
          <p:cNvSpPr/>
          <p:nvPr/>
        </p:nvSpPr>
        <p:spPr>
          <a:xfrm>
            <a:off x="304920" y="304920"/>
            <a:ext cx="24825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ang Lingling’s best friend is Liu Lili. They are both tall, bu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ang has long straight hair, Liu has short straight hair. Wang Lingling likes reading, but Liu Lili likes sports. They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are both popula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in class. They’re both outgo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ang Lingling is more serious. Liu Lili is funnier than Wang Lingling.  Wang is more hard-working than Liu, but Liu is sm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228600" y="914400"/>
            <a:ext cx="439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Reading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116000" y="2924280"/>
            <a:ext cx="78138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Read the article about Greenwood Park. Fill in the blanks with the correct superlative forms of the adjectives and adverbs in the box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"/>
          <p:cNvSpPr/>
          <p:nvPr/>
        </p:nvSpPr>
        <p:spPr>
          <a:xfrm>
            <a:off x="109440" y="3086280"/>
            <a:ext cx="89856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5640" y="422280"/>
            <a:ext cx="3492360" cy="2360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3" name=""/>
          <p:cNvSpPr txBox="1"/>
          <p:nvPr/>
        </p:nvSpPr>
        <p:spPr>
          <a:xfrm>
            <a:off x="3581280" y="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unit4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647640" y="1643040"/>
            <a:ext cx="8028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首先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阅读短文，整体把握短文大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32080" indent="-14320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其次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析有空格的每个句子，看空格  处应是形容词还是副词，根据句意确定单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32080" indent="-14320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最后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将单词正确的最高级形式填到空格上。副词前可以不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20720" y="836640"/>
            <a:ext cx="2771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法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2T06:04:27Z</dcterms:created>
  <dc:creator>jiuzhong</dc:creator>
  <dc:description/>
  <dc:language>en-US</dc:language>
  <cp:lastModifiedBy>wang</cp:lastModifiedBy>
  <dcterms:modified xsi:type="dcterms:W3CDTF">2018-11-12T06:58:0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